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C5E-0F03-4C9C-8743-C600760A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5E9-6D82-474A-836D-6D212C4A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624-5206-4864-BDAB-D6767810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BBA-BFD1-4937-ACCE-4925531B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9319-9DA9-4934-96F9-054BAC48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EC5-24F0-4004-89CD-E962DF08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22A7-7826-492B-B07C-0BAF0471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C322-1FA7-4655-81B5-F6FB7AC6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23C-A184-4E1B-89C9-E4652D2C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8F1A-4470-4F74-9AE0-B21428F6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6190-E4A7-4F30-92EA-143A68C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C60-6ACD-419A-B42C-F6253CB7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57D7-B1F2-4D7D-9953-42458F2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C804-1B5A-4A41-9142-9983434D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FA82-59B2-4984-8008-97CC19E5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B45E-99E2-4F55-8636-BBD8D5B4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4EE3-8BDF-4950-A345-8D0697A7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0A4B-C017-4F23-B278-EE85259E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B85E-FC31-4C54-ACA3-CE10C23A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063B-BDF9-4DA0-B59F-57F0A339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4835-D1D7-4974-9EA8-2DC95B22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3608-51F3-4996-B99A-ACE8B22B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DC3-E622-4D0D-8093-D5BB3C0E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67F8-E7A1-4161-BB84-97870A8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021E-6B65-4F59-9B94-EC618439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2845-5678-428E-8969-20D37CA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ADB2-E93C-4FB4-B585-022E3D9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E171-A19B-4FE6-B93E-28365429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48B2-D556-4D8A-8497-BFC98AA1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A091-40D0-418F-B49E-3FF1DBE5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48F-F5BA-4B3A-84FD-14C4FA1B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E1F-8058-48EB-8602-4D777C7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2D7-BD1C-452C-B4AC-6BE1158A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C7C-3DC0-4146-9F85-B46C2749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843-B7E7-475F-B3CA-63FDE0CF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808-77B4-44C3-815F-F9F4C43C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474B-5882-4CF9-90D7-81D5C01559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3A7F-9460-4154-9F35-3AEC0AC90F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AA20-88D6-474E-9046-8A158BA05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br.ru/" TargetMode="External"/><Relationship Id="rId2" Type="http://schemas.openxmlformats.org/officeDocument/2006/relationships/hyperlink" Target="http://www.eeg.ru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акроэконом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облемы фискальной и монетарной полити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Динамика инфляции является неустойчивой в случае, когда реакция экономических агентов является чувствительной, 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α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&gt; 1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(высокая скорость адаптации ожиданий и высокая чувствительность спроса к инфляционным  ожиданиям). В экономике возникает гиперинфляция или гиперде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5280" y="1844640"/>
                <a:ext cx="541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θ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Рассмотрим теперь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гипотезу рациональных инфляционных ожиданий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, когда динамика инфляционных ожиданий и реальных денежных остатков, является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вперед-смотряще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остейший способ описания рациональных ожиданий дает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гипотеза совершенного предвидения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39640" y="5445000"/>
                <a:ext cx="3221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праж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окажите, что гипотеза совершенного предвидения может быть получена из гипотезы адаптивных ожиданий предельным переходо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796000" y="3500280"/>
                <a:ext cx="1238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4076280"/>
            <a:ext cx="766152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Совместно, уравнения (19), (20) и (24) определяют динамику инфляции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4360" y="1844640"/>
                <a:ext cx="274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α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2637000"/>
                <a:ext cx="40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01640" y="5373720"/>
                <a:ext cx="50738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84360" y="3429000"/>
                <a:ext cx="32209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3284280"/>
            <a:ext cx="8610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бщее решение данного уравнения динамики можно представить в виде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844640"/>
                <a:ext cx="50734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7960" y="4618080"/>
                <a:ext cx="688032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α</m:t>
                                    </m:r>
                                  </m:den>
                                </m:f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равнение (25) обладает положительным корнем равным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α</a:t>
            </a:r>
            <a:r>
              <a:rPr b="0" lang="ru-RU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-1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. Назад-смотрящее решение уравнения будет неустойчивым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57720"/>
            <a:ext cx="878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усть темп роста денежной базы постоянен. Тогда для заданного начального условия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55640" y="5516640"/>
                <a:ext cx="48909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90560" y="4654440"/>
                <a:ext cx="24624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  экономике возникает гиперинфляция или гипердефляция. Но странным является не только (и не столько) результат, что экономика с рациональными ожиданиями характеризуется неустойчивой динамико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39640" y="1628640"/>
                <a:ext cx="48913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78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Если денежный рынок первоначально находится в стационарном состоянии и происходит дискретное перманентное увеличение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в соответствии с (27) экономика столкнется с гипердефляцие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И наоборот, дискретное снижение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приведет к гипер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39640" y="1628640"/>
                <a:ext cx="48913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424400" y="324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292929"/>
                </a:solidFill>
                <a:latin typeface="Times New Roman"/>
              </a:rPr>
              <a:t>μ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argent-Wallace (1973)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редложили следующее решение данной проблемы: концепция рациональных ожиданий предполагает вперед-смотрящее поведение экономических агентов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Следовательно, решение уравнения (25) должно быть вперед-смотрящим, а не назад-смотрящи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640" y="1773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место начального условия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0)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необходимо условие, гарантирующее устойчивость динамики 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11280" y="3429000"/>
                <a:ext cx="380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8000" y="4581360"/>
            <a:ext cx="8856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словие (28) исключает возможность гиперинфляции или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гиперинфляционного пузыр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77744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нфляционная динамика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3556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Модель гиперинфляции Кейган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3556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ривая инфляционного налога Лаффер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4436640"/>
            <a:ext cx="843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Определяем константу с учетом условия отсутствия гиперинфляционного пузыря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95280" y="1700280"/>
                <a:ext cx="688032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α</m:t>
                                    </m:r>
                                  </m:den>
                                </m:f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5280" y="3213000"/>
                <a:ext cx="380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5280" y="5532480"/>
                <a:ext cx="466416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31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олучаем вперед-смотрящее решение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95280" y="1700280"/>
                <a:ext cx="688032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α</m:t>
                                    </m:r>
                                  </m:den>
                                </m:f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5280" y="3068640"/>
                <a:ext cx="46656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95280" y="5373720"/>
                <a:ext cx="53118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3141720"/>
            <a:ext cx="878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Уровень инфляции в каждый момент времени определяется не начальным значением (прошлой динамикой), а будущими значениями темпа роста денежной базы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24000" y="1773360"/>
                <a:ext cx="531180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общем случае, когда будущие значения темпа роста денежной базы не известны, вперед-смотрящее решение имеет вид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95280" y="3284640"/>
                <a:ext cx="569268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0" i="1" lang="el-GR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τ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0" i="1" lang="el-GR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τ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|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Ф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τ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– оператор рациональных ожиданий, определимый как оператор условного математического ожидания на основе доступного информационного множества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Ф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40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редположим, что первоначально темп роста денежной базы постоянен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)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25160" indent="-425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ступает информация, что начиная с момента времени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, темп роста денежной базы вырастет до нового постоянного уровня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)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&gt;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93640" y="5229360"/>
                <a:ext cx="44402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0" y="3157560"/>
                <a:ext cx="9094680" cy="35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α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dτ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α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dτ</m:t>
                                </m:r>
                              </m:e>
                            </m:nary>
                            <m:r>
                              <m:t xml:space="preserve">=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α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1773360"/>
                <a:ext cx="549108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9280" y="171360"/>
          <a:ext cx="865512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1360"/>
                    <a:ext cx="865512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уровень инфляции скачком возрастает на величину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39640" y="2781360"/>
                <a:ext cx="50990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860640"/>
            <a:ext cx="90360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Уровень инфляции является вперед-смотрящей переменной и может изменяться скачком (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jump variable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 Дискретные изменения в уровне инфляции определяются поступлением новой информации относительно будущих значений темпа роста денежной базы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праж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ак будет выглядеть динамика инфляции, если увеличение является непредвиденным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ак будет выглядеть динамика инфляции, если увеличение является предвиденным, но временным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пражнение: модель Кейган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дискретном време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903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Сформулируйте условие отсутствия гиперинфляционного пузыря и выведите вперед-смотрящее решение для логарифма уровня цен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11280" y="2924280"/>
                <a:ext cx="485748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170028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нфляционные ожидания и спрос на реальные денежные остатки задаются уравнениями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нфляционные режи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Низкая 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ысокая 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Гипер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опросы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 чем суть различия инфляционных режимов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Как определяется динамика инфляции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ивая инфляционного налога Лаффе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едположим, что дефицит государственного бюджета финансируется только за счет сеньоража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11280" y="3573360"/>
                <a:ext cx="63514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πm</m:t>
                    </m:r>
                    <m:r>
                      <m:t xml:space="preserve">=</m:t>
                    </m:r>
                    <m:r>
                      <m:t xml:space="preserve">μ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84360" y="6093000"/>
                <a:ext cx="79232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250920" y="4292640"/>
            <a:ext cx="86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стационарном состоянии денежного рынка бюджетный дефицит покрывается только инфляционный налогом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0"/>
            <a:ext cx="435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ривая инфляционного налога Лаффер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54000"/>
          <a:ext cx="8964720" cy="67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000"/>
                    <a:ext cx="8964720" cy="67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ивая инфляционного налога Лаффе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общем случае существует два стационарных уровня инфляции, для которых бюджетный дефицит покрывается инфляционным налого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акой уровень инфляции является устойчивым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0" y="0"/>
                <a:ext cx="3141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π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0" y="836640"/>
                <a:ext cx="4748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0" y="2060640"/>
                <a:ext cx="6597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πm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π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13000"/>
            <a:ext cx="9323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едположим, что ожидания являются адаптивными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0" y="4797360"/>
                <a:ext cx="49258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5667480"/>
                <a:ext cx="87310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0"/>
                <a:ext cx="52387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1413000"/>
                <a:ext cx="57625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d>
                    <m:acc>
                      <m:accPr>
                        <m:chr m:val="˙"/>
                      </m:acc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2637000"/>
                <a:ext cx="20955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4076640"/>
                <a:ext cx="42609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0" y="6093000"/>
                <a:ext cx="7539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544500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стационарном состоянии денежного рынка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24000" y="260280"/>
                <a:ext cx="42606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4000" y="1916280"/>
                <a:ext cx="453996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24000" y="4510080"/>
                <a:ext cx="453996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76040" y="476280"/>
          <a:ext cx="8967960" cy="675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476280"/>
                    <a:ext cx="896796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427640" y="189000"/>
                <a:ext cx="454032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76040" y="476280"/>
          <a:ext cx="8967960" cy="675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476280"/>
                    <a:ext cx="896796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356000" y="189000"/>
                <a:ext cx="454032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праж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окажите, что если инфляционные ожидания определяются гипотезой совершенного предвидения, то устойчивым будет уровень высокой 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и каком уровне инфляции достигается максимум инфляционного налога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Что будет в экономике, если бюджетный дефицит превосходит максимальный уровень инфляционного налога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акже как и в модели Кейгана, экономика оказывается в режиме высокой инфляции (гиперинфляции), если скорость адаптации и чувствительность спроса на реальные денежные остатки достаточно высо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240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892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ассмотрим лог-линейную спецификацию функции спроса на реальные денежные остатки, предложенную в работе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agan (1956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0" y="3357720"/>
                <a:ext cx="323208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4653000"/>
            <a:ext cx="57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- полуэластичность спроса на реальные денежные остатки по инфляционным ожидания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0" y="4149720"/>
                <a:ext cx="30304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дание дл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пражнения и вопросы для обсужден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Ф. Кейган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Гипер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одготовиться к тесту (теория + российская статистика по денежному рынку и государственному бюджету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cbr.ru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www.eeg.ru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6000" y="1700280"/>
            <a:ext cx="89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онормируем константу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А =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1, и обозначим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5640" y="2421000"/>
                <a:ext cx="1662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79280" y="3141720"/>
            <a:ext cx="54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ерепишем (18) в виде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84360" y="3933720"/>
                <a:ext cx="274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α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79280" y="4653000"/>
            <a:ext cx="89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инамика реальных денежных остатков определяется уравнением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4360" y="5707080"/>
                <a:ext cx="52545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ассмотрим вначале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гипотезу адаптивных инфляционных ожиданий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когда динамика инфляционных ожиданий и реальных денежных остатков, является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назад-смотряще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Экономические агенты систематически ошибаются в прогнозе и адаптируют свои ожидания со скоростью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4360" y="5445000"/>
                <a:ext cx="62179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4076280"/>
            <a:ext cx="766152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Совместно, уравнения (19), (20) и (21) определяют динамику инфляции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84360" y="1844640"/>
                <a:ext cx="274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α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84360" y="2637000"/>
                <a:ext cx="40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84360" y="3357720"/>
                <a:ext cx="62179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300640"/>
                <a:ext cx="5530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87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усть темп роста денежной базы постоянен. Тогда для заданного начального условия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8360" y="1773360"/>
                <a:ext cx="5530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68360" y="5229360"/>
                <a:ext cx="541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θ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39640" y="4365720"/>
                <a:ext cx="2462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Динамика инфляции является устойчивой и ее уровень асимптотически стремится к темпу роста денежной базы в случае, когда реакция экономических агентов является нечувствительной, 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α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&lt; 1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(низкая скорость адаптации ожиданий и низкая чувствительность спроса к инфляционным  ожиданиям)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95280" y="1844640"/>
                <a:ext cx="541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θ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9:38:14Z</dcterms:created>
  <dc:creator>Pekarski</dc:creator>
  <dc:description/>
  <dc:language>en-US</dc:language>
  <cp:lastModifiedBy>Pekarski</cp:lastModifiedBy>
  <dcterms:modified xsi:type="dcterms:W3CDTF">2005-02-01T10:57:55Z</dcterms:modified>
  <cp:revision>10</cp:revision>
  <dc:subject/>
  <dc:title>Макроэкономика</dc:title>
</cp:coreProperties>
</file>